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0B1B9-FB94-4A27-94B2-D067AFAA2C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4B02B-77EC-4B42-AEBB-6A3B5896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CB3B8F-177C-4A21-8857-BFCC38FF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2E1424-8C32-4522-B35B-9668C802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ECB46F-7155-4887-80E7-400A60EE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5E1D3B-10B7-4DDB-B1A2-BAABFE15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FC70EF-9192-4268-BEF0-96EC5053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B9CEC3-975B-44A5-978F-70FA12E3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AD9CA5-9C83-4646-8DB1-1CF89BBD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D6B780-9C77-4C21-9CBD-580AD964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84A5EF-4C03-4EBD-B05E-1C5150283D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07568-4B47-44E6-8EA1-535462D088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FCB4D-A837-488C-BA45-C639F8BC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17EF9-2D52-45E3-BC8B-686D6C36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8AA0A-317F-4399-8B58-0261B9BD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A764F-4030-418C-89A2-CA582D1F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DC6EE-DBF3-49EB-B7C5-F448E135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6BC46-1B7B-4711-BE5B-37E64B27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7A61C-F9F9-4E71-98C5-6F1665FE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4C30E-0795-42CB-B4BF-2C0871AA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BD50C-D4CA-494A-9C08-F8DEC9AE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98C41-3CF9-40C3-9D2F-D27777A2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6D0BA-A25E-4E37-8C7E-5091DCD8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5D378-13D5-4B77-B032-73BAD128A0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474C8-EC15-4932-B2BD-2467F36777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35D87B-8AB5-4E17-8E27-64FD249442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9FF885-1862-429F-9F5A-8CA42CE9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8F2002-C629-4412-9C3D-660B911D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B61E09-A03E-4861-B646-0346E0C4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F5CC64-A50F-487C-84D0-8E5251D1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78D66A-3FF3-43A0-8D6F-9983D4D3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1A7BFC-6478-4ADF-A7D9-FFA5FBEB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1B6E70-80A5-4554-86A7-D356C62F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E38545-65D9-47EB-AC43-A396596E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890BF-0CC7-434A-85E8-C4E54767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177000-3E49-4A47-9922-10C3F2CC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E341B1-EE07-4E20-BC3F-C70D5BB5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C9CF7C-3B00-4F2F-B3EB-CEEEB3EEC5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228DA4-F618-452B-BE5C-3A57FCF6AC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8FBCB1-A3E1-47E6-8CD7-6CDD8237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84006-2F29-488A-AC83-85646192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EE5743-166E-4BF4-A438-C3489CCF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E1D9DA-44AF-4A0E-9C69-1645780A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E08FD3-7A27-4A2D-95C3-16362FD0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5B1BA7-C585-442E-A53D-CEFBB5E4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BF32F-CB9C-4875-B2C9-FDFA2CC1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18246-2A74-479D-AC9C-5A975208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BC1BD-EE66-4643-BA99-7893431F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677DD-1B67-45B2-A699-6CE01645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0F9ED-C4EF-4453-8D61-D4CAC1F5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2E257-E436-4C44-A3EC-2C3D4DFC85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EC718-1173-4A87-A862-E48D78CFF0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5EA59-425B-492A-89A7-24146F9C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BF324-242A-4BA4-86AF-73DE212A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67C5D-BC0E-4536-B188-1C5BDEF6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D47C6-32FF-4A2B-B944-CBA09D74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21F5F-E33F-4CF5-B15B-6A185995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461A7-DF93-4489-B5E1-15997DE5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C72E0-21C5-4CCA-800C-90D07A32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F5AC1-B87B-428E-9BF1-E9B2981A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C6CBA-7871-4366-BACD-C96934BC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ED002-8B22-42FC-A5F4-1FAE1C00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60938-D07F-4999-B587-10DB56A0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F2691-C412-4EBC-B589-FB4D78540F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BD706-8EF0-4992-8F0C-1B9B8E3C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B93C6-B56D-4915-8834-D05231AE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A643C-F7ED-4C65-AF18-DE8002A0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4756E-350B-4354-B152-792B09D4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DB9DD-7546-4AA9-A92C-E022AA2D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0E7ED-4A52-4E45-9647-AA4B43A7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12AF1-FDCA-4A88-8824-6B8B6898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B2E87-B3A9-4C90-8D2B-660024FE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0DCDF-0B2A-49E7-BA15-5DF134CC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C9860-6694-45DD-BF82-CC955801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FC3C4-D365-4242-86AC-71B47107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9195C-1DCA-4F17-946B-B8A0A544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FF3A7-17BB-4D49-9FCD-776EBD27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45D5A-8654-4301-B8D3-9988F9DA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8CD0C-8593-40BF-91AA-3A1A85F3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941EB-1BA6-4AD0-926A-092E4D4A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B9BE1-1586-454E-9E10-8EF985C1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8B9FC-659B-42B0-BA32-BCFE9F5D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2FCDE-9446-452C-90FC-264E9718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336C8-802D-44E2-A4D3-995FE8F4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CF8BA-A376-4E4E-878E-B62229B2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9C33D-B316-4DF9-AE6B-104FAF8E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C686A-3587-491F-83CD-E4B5082F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99CFD-DFB9-4755-B3A8-9B566E91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8FE61-B6D8-4D85-881D-27B2C11D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11707-52DF-4624-8B67-13EC9631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22A1E-40EE-4007-B450-BFFC64A9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ACD97-BBA3-4BCE-8D5A-73E348B2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89576-DA37-49A0-971A-19B37A9E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E2CF5-042F-4848-9A6E-DB47ADCA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7113B-A5F0-47AD-839D-D31D5478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1E2E7-4E7D-4D0C-BC4B-0D2F7154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5F4B6-81F5-48E7-A437-5E796D6D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0AA2C-5EF9-47D0-B4C8-32EC65BF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9B559-D87D-42B8-A9DE-49D43FE6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C21C3-97F0-4FFB-8E22-103DF4B9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2127E-16DC-4685-9D0D-70680FE3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2B8A9-8590-40AC-B7F4-23265897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0FB84-6ECF-495A-984F-3A9C7150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0088F-0ED2-48B6-9E15-057EFFE2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04537-DB5D-4A0B-908A-932FF3E7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61290-C624-42DB-BAB9-8C9001D3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D2203-C3ED-456F-A23E-CC5EFE6B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F18E1-14F8-4DE6-A76E-AB674C82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273EE5-4DE5-4C2E-AD56-55B55CB4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999375-8C13-4208-9AFD-9A3DD4E6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8A423-2A7F-465A-8CBB-9350B11B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E588-1DD4-45BC-9F11-B14A0AB8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53784-1C9F-4C44-B1B3-BB8D1DDE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FF132-126C-4112-95F1-04F535D2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91B74-3AF7-463A-8E4F-E0684233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17454-2567-4EC4-973C-5EEEE02C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575A0-1888-4986-B11A-FE961E38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011E6-B98E-418F-B887-FB280911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5722C5-52EF-408C-BE7F-B4CE82D4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8CF879-6992-463B-A221-007D4CD0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158A9-A6B0-45A9-9AF0-AEBDA67C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6FECE-93F9-4229-A3BA-EC9D39D6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874B6-08BB-4EF4-8487-70A719FF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64F4F-2994-4AA7-B07C-519839C8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AE2AE-E507-4564-8350-CE1E407B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11C888-A281-438F-ACE7-FC39BEDD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A423AA-2565-40D1-B6C4-E2013163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31106-4904-4248-BCBF-9E1FC1D4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4CE23E-2EFA-49BE-84DD-F1A8DC0B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2AC2A1-EC5C-4A4A-A8DC-8D56715C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AD215-2DC1-43E2-B36E-ED3DB074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5A2DE7-FAAC-4FB3-96A5-28084219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F8B317-2124-4A62-9889-FB4AE45F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25D14C-3356-4371-987B-F774F51E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27F89-A9EE-4110-A7C2-023EC622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68D0FD-8AA3-4256-87B5-4ABD0994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484825-D8D6-48E1-9773-5F4D559D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8139C8-65B3-42A3-9186-81A9F421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35AA5D-B459-4166-9F77-CA6F319B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72354B-219E-4E8A-805B-E66821CC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B65C57-0AE8-4BCD-BF8A-759BFDAD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154E8-5A9C-4C71-9B75-6A20161E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46EBDB-A686-493C-A640-4698DFBC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DB6681-280C-43B8-BECC-B9DC4B9C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A6F096-4037-4B1F-A845-63E032FF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EEBF2-F0C4-4919-8EAE-E4E1716C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391D9-C6BF-43AA-91AE-7D8D8E1D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5C82C1-51E1-4B34-997F-BBD7114D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23DD84-AB3E-48E1-8E5B-94B6F0C6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303E18-ED3A-4FA9-A087-54DE4C5C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88D89B-415C-41CA-A4B7-F3F4ACF3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60F115-04C0-44FF-9343-FDBAFA0D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87A28F-10D1-47A9-9BD3-258960FF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30E2F4-2915-49B8-87DB-A32EBC92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A21166-AEDF-4C80-A08C-35E36630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4EC289-F34F-49C8-B9BC-139C0501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55D6E-3711-4684-9B1C-0095667B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09B6F1-3D51-44A4-8EE9-48CDAD61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19FDE9-2F94-4373-8F90-55ADC518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1C6700-729E-4F75-8323-8D417329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59AB29-52D1-4F17-807F-20216A7F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E1A5D4-3EAE-4602-BD62-7450332D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38AE92-0AF7-43F9-B667-CC0116A7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D8B606-E7D7-4AC8-A288-18983BBE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3F2B28-D2D7-48D1-A10D-FBFC70B1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1E7D9A-8564-44BA-99E7-5BD13BBC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915CC2-7B36-4562-B232-16414066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1CCDFF-76B0-4E66-869E-B3A24C8777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916AB9-0822-4DCD-A120-15B77EDE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5E7587-7EFA-4DAD-B6BD-ADC7DF27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77403B-85D5-4061-9663-2657B6FF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389C2E-9FB9-4B35-8438-91266683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778C42-E80E-4115-809A-478CBA01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4F2361-F05D-4F60-87E3-B4412C4D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3F2FDE-17EC-411D-B01A-E73FF9F4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40B98E-D2BC-42C9-9355-1985935C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9E00DB-4E82-4E00-AFCB-358655AC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FC8CCF-AA97-4306-9900-C010F63C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B8A9D3-F2B5-4212-8F9A-47B67FC2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7B42BC-DCC2-4192-BA17-D97CE531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4B37FA-9155-4F37-8356-DDDE7E31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9B0FF6-59C1-4BB4-9E3D-F5FD4E05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193E82-2399-48E9-B528-C736FE18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26348D-9A97-4B48-9895-5B90A2F4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2EA519-8744-4E8B-9EB7-BB745835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B0F250-FF27-4A17-8E51-71545B28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3DFE03-AAAD-41B4-89BA-89296F6C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AE19CD-22B8-4CF9-958F-5B2D4BF1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34707F-8C29-4559-BF48-7903A633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E09A75-4753-4B36-A6A3-06EE0C9D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FE2847-AE1C-4871-A88C-27FD70C0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E325E7-88C3-4233-AC70-E1C843C3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8B6715-3162-4517-8806-DFF56409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2158C5-1E7B-41C8-B966-F43C3D09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CD1798-4D18-4821-9C21-C9F267DE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EF5771-9DFA-4537-9BBF-9D4381F7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E1F2F2-9BBD-4D9E-8786-23A6B17A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56D0A0-A444-4366-B013-B8FB793E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C4070E-C5B8-4493-AF31-621ACB8A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5E147E-3D11-46A2-A823-A1FFDF7C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558816-EC30-42D0-BE14-978A22B2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874464-1965-4E15-AC97-4F0F7351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781A45-7726-48BE-A7F0-4CDB538C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616227-4D8F-4F60-A44F-086DB2C8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8B3AA2-6D5F-4A4E-B164-0D562999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04A45B-8C11-4A32-A585-24FCEB2C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AA1867-1CFB-4D65-A0F4-3B8FE565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324D4F-DCEA-4C7B-B1DE-C814C108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068846-8840-4FF6-BCAB-84BC7F7D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932705-54AF-49CC-8A09-D35744B6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AD85B2-F999-4251-A1F4-2EDD3849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1E1DB-796C-4556-B090-1B4E2899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BB921-694B-4CD2-90C6-0D33405A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45F445-3830-44DF-8D22-58C3D9A4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EF70D7-D944-42C2-A767-A5654F97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5C81B9-0FB9-4F4E-A9DA-DDF8302B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B675BE-C8C0-4B22-8279-B44C2DB9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CA761E-9986-486A-B5B0-044A1060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A8D122-2613-4889-AC10-914F16E12D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C4264-3B75-4C33-9992-6D9633967D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98178-A605-40B5-BEF9-EE0CC36E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592D7-A484-459B-BC9D-9416E79B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2112B-A35E-46BA-B100-2FE6E8FC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27351-2F60-42AE-9C39-ADB05A7D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C18A4-97E8-48AA-90D1-10B67D71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8FB36-4F78-4A9D-8AB6-F6C76BF1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B5D2A-67A2-446C-A2AB-B01AE97B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68EAF-EB86-4A9B-8ACD-94FA23C3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A6AD8-FE12-4397-AF08-FEF8906D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C61BE-BC4E-46BA-A188-6D6C74A6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074FA-1E86-4732-BF73-DB8970DB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1B6EE-74FA-43CC-96B9-D75498BCE8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384207-C0B3-4941-ACDC-64DB03B46B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E91E4-91F6-48F0-B7BE-95539417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E307CE-8FF6-4AFE-9A15-1F5894EA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9E857-803E-499A-B1D5-4F271EB0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930CFC-35B2-402E-984E-9C086A4E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BA045F-AB9B-45AA-B578-9B5E3D24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E5AAF9-DDB9-4AE7-A11B-083BA4D5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38E99B-88CE-4C2A-9082-66868183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9634F7-17E0-46BB-BF31-163601B0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456F1C-06D8-4309-AE10-7C85193A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426619-8316-445D-8D60-38583010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27AB7C-5B85-42DE-8FE2-6FFAE4E7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D2137-93D6-4B51-86C9-479AA87A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7FD82D-22A4-4EFC-B3F6-B4C16B46A1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2DC323-5125-4D5C-AE1E-3E5EE9B511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4FEA89-7CD8-408E-912C-33596897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C07800-2DA3-4204-9221-7E2ADF05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AAE13D-3B75-4AA0-A1DA-7DA43C55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328AA6-ADA3-4118-AD46-3A3FB0B3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A6427F-207A-4927-A30A-6F969583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F64995-C0D1-48D3-A512-0FB8C9B2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C5A03B-E233-45FC-99B5-71B8EBD5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416BFB-3F0F-448B-B8F4-422DE4D6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165CD-43B5-4EAC-863F-3A0A1EC0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9D568A-4DA7-4576-A924-5D18E613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2D4344-5474-40BE-AF19-CB8BCC4C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F2BE74-D545-471E-A598-726812129A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6F81C-5A51-46EB-836F-45311FF1E0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4EEB5-390F-4DE5-8F31-0192CECC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46A9F-6E48-4267-849D-40675693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B9594-467C-4AAC-A357-E2A7D854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0D503-D61A-4FDE-8616-6DD6481E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1B4EC-C1E6-4293-A73A-A6C7590E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920DC-6B96-404B-A024-B9C973FA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12619-918A-4DEB-92F1-4F713E95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3B4F6-010B-4324-B116-9240AE57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25809-B3D5-4B92-99C6-A16A3BC1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4A769-BD6E-444A-9852-CCA891B1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D2DAA-EE21-4AA1-9294-087583BA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52B4C-C6A6-42E4-933C-A22C818E2F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D072CD-C9CE-4C16-AA9D-A233B4431B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F98B3D-F80A-43AC-9664-D02C665C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BA7A50-B7CF-4686-AE98-72540DD3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8DDC5A-0877-467E-A8F3-507F44D8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21DF7E-9719-494A-9953-769D1FEC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DCC24-4275-47C3-95C0-31589EE9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E634F1-37B6-43D8-9B78-2A400D7F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FC8429-3235-48F1-BE26-652DB5C7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7E968E-BA7D-4AC9-9116-11180D57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502EB-37B8-409E-9BBA-AB0551D2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F6F6A9-D27B-462A-84D7-6C1E2232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B570C3-D578-434F-A260-06B7D22F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02BE5-B308-4369-9855-9CD923891D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2F7C8D-A111-47CA-8AC1-31EAFBFE8D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6E2A9A-A1F1-4C75-9825-5DEA9159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9FAF11-6E06-4D09-B085-FC4A106D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2F3B-0E8E-4D0A-AA54-5A275D8DBA6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C78F-E1F7-47D6-ADB5-60192AE3333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C8E6-5E9E-47C1-8953-FAE657238F4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5B90-844B-4F6D-93D1-68902AD1410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A919-1FC9-47DB-AF37-AD6A90C32AD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BA92-1177-40FF-BA8F-71D612CFE36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B1DF-6F7E-467E-9F51-42AA1400F69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E6A3-5342-4CA5-A59E-A2F78064C3E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B001-9396-477C-B422-D1FFA17A0D5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D130-E88E-4732-87A7-C11A24B659A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0D65-7836-4B4F-B3CE-65D61195081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8267-16EA-4418-99E7-35AC4A5CF35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75F4-7EC4-40BD-AED9-EC7DC51EEE5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5A57-03B3-449D-97DC-E716463BFBC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79C1-5362-49CA-B1E8-5F8A4FFEEDB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9AD6-A193-4E9A-BA55-1A96ABB7A4B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6499-BF4B-436A-A280-6ABC1862219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9AE9-64CC-4AB8-9252-223A6FCAA01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2981-2A3C-4345-B4E2-6B6A58B7A76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59F1-DBE3-46F3-BF3F-CD95D200902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27AC-2047-4AAB-9D32-FAE10F9DE28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064B-C002-4223-AE4B-2C0DCC81221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2E3C-BE47-408B-9ACA-F38614026E7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CEE8-4829-45B9-905A-9C92739A68F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008160" y="2798640"/>
            <a:ext cx="55908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2736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认 识 角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384200" y="1744560"/>
            <a:ext cx="91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角的初步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57240"/>
            <a:ext cx="5143680" cy="525240"/>
            <a:chOff x="0" y="57240"/>
            <a:chExt cx="5143680" cy="525240"/>
          </a:xfrm>
        </p:grpSpPr>
        <p:pic>
          <p:nvPicPr>
            <p:cNvPr id="999" name="圆角矩形 7" descr=""/>
            <p:cNvPicPr/>
            <p:nvPr/>
          </p:nvPicPr>
          <p:blipFill>
            <a:blip r:embed="rId1"/>
            <a:stretch/>
          </p:blipFill>
          <p:spPr>
            <a:xfrm>
              <a:off x="255600" y="57240"/>
              <a:ext cx="4888080" cy="52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51920"/>
              <a:ext cx="687960" cy="273600"/>
              <a:chOff x="0" y="151920"/>
              <a:chExt cx="687960" cy="273600"/>
            </a:xfrm>
          </p:grpSpPr>
          <p:sp>
            <p:nvSpPr>
              <p:cNvPr id="1001" name="椭圆 9"/>
              <p:cNvSpPr/>
              <p:nvPr/>
            </p:nvSpPr>
            <p:spPr>
              <a:xfrm rot="16200000">
                <a:off x="280080" y="304560"/>
                <a:ext cx="105840" cy="13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47840" y="237600"/>
                <a:ext cx="24012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80080" y="169200"/>
                <a:ext cx="105840" cy="13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447840" y="161640"/>
                <a:ext cx="2401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48400"/>
                <a:ext cx="609840" cy="6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29680"/>
                <a:ext cx="609840" cy="6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170640"/>
                <a:ext cx="609840" cy="6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51920"/>
                <a:ext cx="609840" cy="6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9" name="Picture 5" descr="D:\我的文档-桌面-收藏夹\桌面\剪刀.jpg"/>
          <p:cNvPicPr/>
          <p:nvPr/>
        </p:nvPicPr>
        <p:blipFill>
          <a:blip r:embed="rId8"/>
          <a:srcRect l="0" t="0" r="0" b="5225"/>
          <a:stretch/>
        </p:blipFill>
        <p:spPr>
          <a:xfrm flipH="1" rot="798000">
            <a:off x="1221480" y="1572840"/>
            <a:ext cx="1540080" cy="99540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D:\我的文档-桌面-收藏夹\桌面\钟面.jpg"/>
          <p:cNvPicPr/>
          <p:nvPr/>
        </p:nvPicPr>
        <p:blipFill>
          <a:blip r:embed="rId9"/>
          <a:srcRect l="4129" t="4490" r="2039" b="2423"/>
          <a:stretch/>
        </p:blipFill>
        <p:spPr>
          <a:xfrm>
            <a:off x="3774960" y="1590840"/>
            <a:ext cx="1339920" cy="9363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3" descr="D:\我的文档-桌面-收藏夹\桌面\000000000103994413_3.jpg"/>
          <p:cNvPicPr/>
          <p:nvPr/>
        </p:nvPicPr>
        <p:blipFill>
          <a:blip r:embed="rId10"/>
          <a:stretch/>
        </p:blipFill>
        <p:spPr>
          <a:xfrm>
            <a:off x="5992920" y="1338120"/>
            <a:ext cx="1436760" cy="1436760"/>
          </a:xfrm>
          <a:prstGeom prst="rect">
            <a:avLst/>
          </a:prstGeom>
          <a:ln w="0">
            <a:noFill/>
          </a:ln>
        </p:spPr>
      </p:pic>
      <p:sp>
        <p:nvSpPr>
          <p:cNvPr id="1012" name="TextBox 5"/>
          <p:cNvSpPr/>
          <p:nvPr/>
        </p:nvSpPr>
        <p:spPr>
          <a:xfrm>
            <a:off x="1120680" y="871560"/>
            <a:ext cx="3000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这些物品中都有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32"/>
          <p:cNvSpPr/>
          <p:nvPr/>
        </p:nvSpPr>
        <p:spPr>
          <a:xfrm>
            <a:off x="646200" y="4987800"/>
            <a:ext cx="8001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上面的图形都是角。一个角有几个顶点？有几条边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5"/>
          <p:cNvSpPr/>
          <p:nvPr/>
        </p:nvSpPr>
        <p:spPr>
          <a:xfrm>
            <a:off x="646200" y="71280"/>
            <a:ext cx="5286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一、生活引入，揭示课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八边形 14"/>
          <p:cNvSpPr/>
          <p:nvPr/>
        </p:nvSpPr>
        <p:spPr>
          <a:xfrm>
            <a:off x="385920" y="85104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组合 25"/>
          <p:cNvGrpSpPr/>
          <p:nvPr/>
        </p:nvGrpSpPr>
        <p:grpSpPr>
          <a:xfrm>
            <a:off x="1417320" y="2665440"/>
            <a:ext cx="844920" cy="1766520"/>
            <a:chOff x="1417320" y="2665440"/>
            <a:chExt cx="844920" cy="1766520"/>
          </a:xfrm>
        </p:grpSpPr>
        <p:grpSp>
          <p:nvGrpSpPr>
            <p:cNvPr id="1017" name="组合 13"/>
            <p:cNvGrpSpPr/>
            <p:nvPr/>
          </p:nvGrpSpPr>
          <p:grpSpPr>
            <a:xfrm>
              <a:off x="1417320" y="3928320"/>
              <a:ext cx="844920" cy="503640"/>
              <a:chOff x="1417320" y="3928320"/>
              <a:chExt cx="844920" cy="503640"/>
            </a:xfrm>
          </p:grpSpPr>
          <p:sp>
            <p:nvSpPr>
              <p:cNvPr id="1018" name="直接连接符 8"/>
              <p:cNvSpPr/>
              <p:nvPr/>
            </p:nvSpPr>
            <p:spPr>
              <a:xfrm flipH="1">
                <a:off x="1417320" y="3928320"/>
                <a:ext cx="772920" cy="271080"/>
              </a:xfrm>
              <a:prstGeom prst="line">
                <a:avLst/>
              </a:prstGeom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直接连接符 10"/>
              <p:cNvSpPr/>
              <p:nvPr/>
            </p:nvSpPr>
            <p:spPr>
              <a:xfrm flipH="1" flipV="1">
                <a:off x="1417680" y="4199040"/>
                <a:ext cx="844560" cy="232920"/>
              </a:xfrm>
              <a:prstGeom prst="line">
                <a:avLst/>
              </a:prstGeom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20" name="直接箭头连接符 20"/>
            <p:cNvCxnSpPr/>
            <p:nvPr/>
          </p:nvCxnSpPr>
          <p:spPr>
            <a:xfrm>
              <a:off x="1886760" y="2665440"/>
              <a:ext cx="1080" cy="640080"/>
            </a:xfrm>
            <a:prstGeom prst="straightConnector1">
              <a:avLst/>
            </a:prstGeom>
            <a:ln w="15840">
              <a:solidFill>
                <a:srgbClr val="ccccff"/>
              </a:solidFill>
              <a:miter/>
              <a:tailEnd len="med" type="arrow" w="med"/>
            </a:ln>
          </p:spPr>
        </p:cxnSp>
      </p:grpSp>
      <p:grpSp>
        <p:nvGrpSpPr>
          <p:cNvPr id="1021" name="组合 26"/>
          <p:cNvGrpSpPr/>
          <p:nvPr/>
        </p:nvGrpSpPr>
        <p:grpSpPr>
          <a:xfrm>
            <a:off x="4398480" y="2665440"/>
            <a:ext cx="459000" cy="2123640"/>
            <a:chOff x="4398480" y="2665440"/>
            <a:chExt cx="459000" cy="2123640"/>
          </a:xfrm>
        </p:grpSpPr>
        <p:grpSp>
          <p:nvGrpSpPr>
            <p:cNvPr id="1022" name="组合 19"/>
            <p:cNvGrpSpPr/>
            <p:nvPr/>
          </p:nvGrpSpPr>
          <p:grpSpPr>
            <a:xfrm>
              <a:off x="4398480" y="3773880"/>
              <a:ext cx="459000" cy="1015200"/>
              <a:chOff x="4398480" y="3773880"/>
              <a:chExt cx="459000" cy="1015200"/>
            </a:xfrm>
          </p:grpSpPr>
          <p:sp>
            <p:nvSpPr>
              <p:cNvPr id="1023" name="直接连接符 16"/>
              <p:cNvSpPr/>
              <p:nvPr/>
            </p:nvSpPr>
            <p:spPr>
              <a:xfrm flipH="1">
                <a:off x="4398480" y="3773880"/>
                <a:ext cx="459000" cy="263520"/>
              </a:xfrm>
              <a:prstGeom prst="line">
                <a:avLst/>
              </a:prstGeom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直接连接符 18"/>
              <p:cNvSpPr/>
              <p:nvPr/>
            </p:nvSpPr>
            <p:spPr>
              <a:xfrm flipV="1">
                <a:off x="4398840" y="4037400"/>
                <a:ext cx="0" cy="751680"/>
              </a:xfrm>
              <a:prstGeom prst="line">
                <a:avLst/>
              </a:prstGeom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25" name="直接箭头连接符 21"/>
            <p:cNvCxnSpPr/>
            <p:nvPr/>
          </p:nvCxnSpPr>
          <p:spPr>
            <a:xfrm>
              <a:off x="4430520" y="2665440"/>
              <a:ext cx="1080" cy="640080"/>
            </a:xfrm>
            <a:prstGeom prst="straightConnector1">
              <a:avLst/>
            </a:prstGeom>
            <a:ln w="15840">
              <a:solidFill>
                <a:srgbClr val="ccccff"/>
              </a:solidFill>
              <a:miter/>
              <a:tailEnd len="med" type="arrow" w="med"/>
            </a:ln>
          </p:spPr>
        </p:cxnSp>
      </p:grpSp>
      <p:grpSp>
        <p:nvGrpSpPr>
          <p:cNvPr id="1026" name="组合 27"/>
          <p:cNvGrpSpPr/>
          <p:nvPr/>
        </p:nvGrpSpPr>
        <p:grpSpPr>
          <a:xfrm>
            <a:off x="6000480" y="2665440"/>
            <a:ext cx="1285920" cy="1761480"/>
            <a:chOff x="6000480" y="2665440"/>
            <a:chExt cx="1285920" cy="1761480"/>
          </a:xfrm>
        </p:grpSpPr>
        <p:grpSp>
          <p:nvGrpSpPr>
            <p:cNvPr id="1027" name="组合 27"/>
            <p:cNvGrpSpPr/>
            <p:nvPr/>
          </p:nvGrpSpPr>
          <p:grpSpPr>
            <a:xfrm>
              <a:off x="6000480" y="3887280"/>
              <a:ext cx="1285920" cy="539640"/>
              <a:chOff x="6000480" y="3887280"/>
              <a:chExt cx="1285920" cy="539640"/>
            </a:xfrm>
          </p:grpSpPr>
          <p:sp>
            <p:nvSpPr>
              <p:cNvPr id="1028" name="直接连接符 22"/>
              <p:cNvSpPr/>
              <p:nvPr/>
            </p:nvSpPr>
            <p:spPr>
              <a:xfrm flipH="1">
                <a:off x="6000480" y="3887280"/>
                <a:ext cx="785880" cy="539640"/>
              </a:xfrm>
              <a:prstGeom prst="line">
                <a:avLst/>
              </a:prstGeom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直接连接符 23"/>
              <p:cNvSpPr/>
              <p:nvPr/>
            </p:nvSpPr>
            <p:spPr>
              <a:xfrm flipH="1" flipV="1">
                <a:off x="6786360" y="3888000"/>
                <a:ext cx="500040" cy="501840"/>
              </a:xfrm>
              <a:prstGeom prst="line">
                <a:avLst/>
              </a:prstGeom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30" name="直接箭头连接符 24"/>
            <p:cNvCxnSpPr/>
            <p:nvPr/>
          </p:nvCxnSpPr>
          <p:spPr>
            <a:xfrm>
              <a:off x="6749640" y="2665440"/>
              <a:ext cx="1080" cy="640080"/>
            </a:xfrm>
            <a:prstGeom prst="straightConnector1">
              <a:avLst/>
            </a:prstGeom>
            <a:ln w="15840">
              <a:solidFill>
                <a:srgbClr val="ccccff"/>
              </a:solidFill>
              <a:miter/>
              <a:tailEnd len="med" type="arrow" w="med"/>
            </a:ln>
          </p:spPr>
        </p:cxnSp>
      </p:grpSp>
      <p:pic>
        <p:nvPicPr>
          <p:cNvPr id="1031" name="图片 28" descr=""/>
          <p:cNvPicPr/>
          <p:nvPr/>
        </p:nvPicPr>
        <p:blipFill>
          <a:blip r:embed="rId11"/>
          <a:stretch/>
        </p:blipFill>
        <p:spPr>
          <a:xfrm rot="19380000">
            <a:off x="4603320" y="2212560"/>
            <a:ext cx="1019160" cy="49860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32" descr=""/>
          <p:cNvPicPr/>
          <p:nvPr/>
        </p:nvPicPr>
        <p:blipFill>
          <a:blip r:embed="rId12"/>
          <a:stretch/>
        </p:blipFill>
        <p:spPr>
          <a:xfrm flipH="1" rot="2220000">
            <a:off x="3150360" y="2196720"/>
            <a:ext cx="1019160" cy="496800"/>
          </a:xfrm>
          <a:prstGeom prst="rect">
            <a:avLst/>
          </a:prstGeom>
          <a:ln w="0">
            <a:noFill/>
          </a:ln>
        </p:spPr>
      </p:pic>
      <p:sp>
        <p:nvSpPr>
          <p:cNvPr id="1033" name="文本框 35"/>
          <p:cNvSpPr/>
          <p:nvPr/>
        </p:nvSpPr>
        <p:spPr>
          <a:xfrm>
            <a:off x="1184400" y="559908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一个角有一个顶点，两条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组合 2"/>
          <p:cNvGrpSpPr/>
          <p:nvPr/>
        </p:nvGrpSpPr>
        <p:grpSpPr>
          <a:xfrm>
            <a:off x="-142920" y="101520"/>
            <a:ext cx="5180040" cy="527040"/>
            <a:chOff x="-142920" y="101520"/>
            <a:chExt cx="5180040" cy="527040"/>
          </a:xfrm>
        </p:grpSpPr>
        <p:pic>
          <p:nvPicPr>
            <p:cNvPr id="1035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14480" y="101520"/>
              <a:ext cx="4922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6" name="组合 4"/>
            <p:cNvGrpSpPr/>
            <p:nvPr/>
          </p:nvGrpSpPr>
          <p:grpSpPr>
            <a:xfrm>
              <a:off x="-142920" y="196560"/>
              <a:ext cx="692640" cy="274320"/>
              <a:chOff x="-142920" y="196560"/>
              <a:chExt cx="692640" cy="274320"/>
            </a:xfrm>
          </p:grpSpPr>
          <p:sp>
            <p:nvSpPr>
              <p:cNvPr id="1037" name="椭圆 2"/>
              <p:cNvSpPr/>
              <p:nvPr/>
            </p:nvSpPr>
            <p:spPr>
              <a:xfrm rot="16200000">
                <a:off x="138600" y="349560"/>
                <a:ext cx="106200" cy="13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8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309240" y="282240"/>
                <a:ext cx="2404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椭圆 29"/>
              <p:cNvSpPr/>
              <p:nvPr/>
            </p:nvSpPr>
            <p:spPr>
              <a:xfrm rot="16200000">
                <a:off x="138600" y="213480"/>
                <a:ext cx="106200" cy="13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309240" y="206280"/>
                <a:ext cx="24048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42920" y="293400"/>
                <a:ext cx="614520" cy="6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6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2920" y="274320"/>
                <a:ext cx="614520" cy="6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142920" y="215280"/>
                <a:ext cx="614520" cy="6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142920" y="196560"/>
                <a:ext cx="614520" cy="6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5" name="直接连接符 12"/>
          <p:cNvSpPr/>
          <p:nvPr/>
        </p:nvSpPr>
        <p:spPr>
          <a:xfrm flipV="1">
            <a:off x="5929200" y="1428480"/>
            <a:ext cx="100008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3"/>
          <p:cNvSpPr/>
          <p:nvPr/>
        </p:nvSpPr>
        <p:spPr>
          <a:xfrm>
            <a:off x="214200" y="852480"/>
            <a:ext cx="8715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从一个点起，用尺子向不同的方向画两条笔直的线，就画成一个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直接连接符 5"/>
          <p:cNvSpPr/>
          <p:nvPr/>
        </p:nvSpPr>
        <p:spPr>
          <a:xfrm>
            <a:off x="1928880" y="2214720"/>
            <a:ext cx="1571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右箭头 9"/>
          <p:cNvSpPr/>
          <p:nvPr/>
        </p:nvSpPr>
        <p:spPr>
          <a:xfrm>
            <a:off x="4000680" y="2143080"/>
            <a:ext cx="1500120" cy="1429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直接连接符 10"/>
          <p:cNvSpPr/>
          <p:nvPr/>
        </p:nvSpPr>
        <p:spPr>
          <a:xfrm>
            <a:off x="5929200" y="2214720"/>
            <a:ext cx="1214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Box 20"/>
          <p:cNvSpPr/>
          <p:nvPr/>
        </p:nvSpPr>
        <p:spPr>
          <a:xfrm>
            <a:off x="652320" y="3286080"/>
            <a:ext cx="6500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说一说周围哪些动物的表面上有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按照例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的方法，自己画出一个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Box 21"/>
          <p:cNvSpPr/>
          <p:nvPr/>
        </p:nvSpPr>
        <p:spPr>
          <a:xfrm>
            <a:off x="1644480" y="3733920"/>
            <a:ext cx="3143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Calibri"/>
                <a:ea typeface="宋体"/>
              </a:rPr>
              <a:t>羊、牛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23"/>
          <p:cNvSpPr/>
          <p:nvPr/>
        </p:nvSpPr>
        <p:spPr>
          <a:xfrm flipV="1">
            <a:off x="1920960" y="4932360"/>
            <a:ext cx="1143000" cy="57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直接连接符 24"/>
          <p:cNvSpPr/>
          <p:nvPr/>
        </p:nvSpPr>
        <p:spPr>
          <a:xfrm>
            <a:off x="1920960" y="5497560"/>
            <a:ext cx="1071360" cy="50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5"/>
          <p:cNvSpPr/>
          <p:nvPr/>
        </p:nvSpPr>
        <p:spPr>
          <a:xfrm>
            <a:off x="573120" y="71280"/>
            <a:ext cx="5286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二、抽象图形，形成表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八边形 8"/>
          <p:cNvSpPr/>
          <p:nvPr/>
        </p:nvSpPr>
        <p:spPr>
          <a:xfrm>
            <a:off x="385920" y="70812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57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8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59" name="椭圆 1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0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1" name="椭圆 2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4" name="圆角矩形 5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67" name="Picture 1" descr="D:\我的文档-桌面-收藏夹\桌面\REJA29.tif"/>
          <p:cNvPicPr/>
          <p:nvPr/>
        </p:nvPicPr>
        <p:blipFill>
          <a:blip r:embed="rId8"/>
          <a:stretch/>
        </p:blipFill>
        <p:spPr>
          <a:xfrm>
            <a:off x="1071720" y="1641600"/>
            <a:ext cx="6429240" cy="2651040"/>
          </a:xfrm>
          <a:prstGeom prst="rect">
            <a:avLst/>
          </a:prstGeom>
          <a:ln w="0">
            <a:noFill/>
          </a:ln>
        </p:spPr>
      </p:pic>
      <p:sp>
        <p:nvSpPr>
          <p:cNvPr id="1068" name="TextBox 3"/>
          <p:cNvSpPr/>
          <p:nvPr/>
        </p:nvSpPr>
        <p:spPr>
          <a:xfrm>
            <a:off x="714240" y="855720"/>
            <a:ext cx="507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判断哪些是角，哪些不是角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4"/>
          <p:cNvSpPr/>
          <p:nvPr/>
        </p:nvSpPr>
        <p:spPr>
          <a:xfrm>
            <a:off x="2428920" y="4784760"/>
            <a:ext cx="4191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Calibri"/>
                <a:ea typeface="宋体"/>
              </a:rPr>
              <a:t>①</a:t>
            </a:r>
            <a:r>
              <a:rPr b="0" lang="zh-CN" sz="2500" spc="-1" strike="noStrike">
                <a:solidFill>
                  <a:srgbClr val="ff0000"/>
                </a:solidFill>
                <a:latin typeface="Calibri"/>
                <a:ea typeface="宋体"/>
              </a:rPr>
              <a:t>、③、⑤、⑦、⑧是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Calibri"/>
                <a:ea typeface="宋体"/>
              </a:rPr>
              <a:t>② </a:t>
            </a:r>
            <a:r>
              <a:rPr b="0" lang="zh-CN" sz="2500" spc="-1" strike="noStrike">
                <a:solidFill>
                  <a:srgbClr val="ff0000"/>
                </a:solidFill>
                <a:latin typeface="Calibri"/>
                <a:ea typeface="宋体"/>
              </a:rPr>
              <a:t>、④ 、⑥不是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Box 5"/>
          <p:cNvSpPr/>
          <p:nvPr/>
        </p:nvSpPr>
        <p:spPr>
          <a:xfrm>
            <a:off x="717480" y="69840"/>
            <a:ext cx="385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三、巩固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 txBox="1"/>
          <p:nvPr/>
        </p:nvSpPr>
        <p:spPr>
          <a:xfrm>
            <a:off x="457200" y="87804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我会填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一个角是由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个顶点和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条边组成的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三角形有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个顶点，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条边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正方形有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个顶点，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个角，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条边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个点起，用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向不同的方向画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条直线，就画成一个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角的大小与角的两条边叉开的大小（      ）关系，两边叉开的越大，角就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73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4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75" name="椭圆 1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6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7" name="椭圆 2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0" name="圆角矩形 5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3" name="文本框 4"/>
          <p:cNvSpPr/>
          <p:nvPr/>
        </p:nvSpPr>
        <p:spPr>
          <a:xfrm>
            <a:off x="2817720" y="169704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6"/>
          <p:cNvSpPr/>
          <p:nvPr/>
        </p:nvSpPr>
        <p:spPr>
          <a:xfrm>
            <a:off x="4924440" y="16970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文本框 8"/>
          <p:cNvSpPr/>
          <p:nvPr/>
        </p:nvSpPr>
        <p:spPr>
          <a:xfrm>
            <a:off x="2438280" y="2303640"/>
            <a:ext cx="3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文本框 9"/>
          <p:cNvSpPr/>
          <p:nvPr/>
        </p:nvSpPr>
        <p:spPr>
          <a:xfrm>
            <a:off x="4703760" y="23036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文本框 10"/>
          <p:cNvSpPr/>
          <p:nvPr/>
        </p:nvSpPr>
        <p:spPr>
          <a:xfrm>
            <a:off x="2511360" y="292104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文本框 11"/>
          <p:cNvSpPr/>
          <p:nvPr/>
        </p:nvSpPr>
        <p:spPr>
          <a:xfrm>
            <a:off x="4768920" y="2921040"/>
            <a:ext cx="3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文本框 12"/>
          <p:cNvSpPr/>
          <p:nvPr/>
        </p:nvSpPr>
        <p:spPr>
          <a:xfrm>
            <a:off x="6778800" y="29210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文本框 13"/>
          <p:cNvSpPr/>
          <p:nvPr/>
        </p:nvSpPr>
        <p:spPr>
          <a:xfrm>
            <a:off x="1371600" y="35481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文本框 14"/>
          <p:cNvSpPr/>
          <p:nvPr/>
        </p:nvSpPr>
        <p:spPr>
          <a:xfrm>
            <a:off x="3970440" y="355932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尺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文本框 15"/>
          <p:cNvSpPr/>
          <p:nvPr/>
        </p:nvSpPr>
        <p:spPr>
          <a:xfrm>
            <a:off x="7640640" y="35481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文本框 16"/>
          <p:cNvSpPr/>
          <p:nvPr/>
        </p:nvSpPr>
        <p:spPr>
          <a:xfrm>
            <a:off x="4097160" y="4165560"/>
            <a:ext cx="3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17"/>
          <p:cNvSpPr/>
          <p:nvPr/>
        </p:nvSpPr>
        <p:spPr>
          <a:xfrm>
            <a:off x="6715080" y="47577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文本框 18"/>
          <p:cNvSpPr/>
          <p:nvPr/>
        </p:nvSpPr>
        <p:spPr>
          <a:xfrm>
            <a:off x="4476600" y="5372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Box 5"/>
          <p:cNvSpPr/>
          <p:nvPr/>
        </p:nvSpPr>
        <p:spPr>
          <a:xfrm>
            <a:off x="717480" y="69840"/>
            <a:ext cx="385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四、课后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08:22:00Z</dcterms:created>
  <dc:creator/>
  <dc:description/>
  <dc:language>en-US</dc:language>
  <cp:lastModifiedBy>万润仪器贸易公司</cp:lastModifiedBy>
  <dcterms:modified xsi:type="dcterms:W3CDTF">2020-08-21T00:43:01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